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668-346E-41CA-A679-942FEEAF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C5F-BB27-4811-9222-8E2D9D4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F1B-E1DA-4875-B02D-8F5871A8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707-05E9-4DEB-92A5-04BBF20A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3FC-E8C5-4BEE-BDBC-F7DCCFFC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0A0-D1FE-46B3-B9AC-F84214B3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BF0-DAD9-4047-AC38-2AA66F08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426-AB60-4CF6-8E22-F08C5FE7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490-AA14-45F4-8F6F-9FA7B09B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D19-0A90-4214-AE25-A9C575E9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EE4-C924-48C4-B51E-2CAC0305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363-E561-478E-9011-1D3503A5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D8E0-16F1-41C8-A3E3-098933F77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03760" y="3505320"/>
            <a:ext cx="2266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4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771480"/>
            <a:ext cx="617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34000" y="1143000"/>
            <a:ext cx="4410000" cy="37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1339920"/>
            <a:ext cx="38862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289320" cy="358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695680" cy="4124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7:22:38Z</dcterms:created>
  <dc:creator>Patrick J. Mooney</dc:creator>
  <dc:description/>
  <dc:language>en-US</dc:language>
  <cp:lastModifiedBy>Patrick J. Mooney</cp:lastModifiedBy>
  <dcterms:modified xsi:type="dcterms:W3CDTF">2011-04-19T02:17:39Z</dcterms:modified>
  <cp:revision>6</cp:revision>
  <dc:subject/>
  <dc:title>Slide 1</dc:title>
</cp:coreProperties>
</file>